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612-9565-49D6-B453-692B7579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F3C-AF75-4908-9F97-868A663B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EDF-F32E-47C9-8D74-419813CD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FD7-6598-4CBA-AA7D-18B0AA07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F91-D470-40A1-80BA-56C8F51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E15-5E33-40CA-BE0E-BBE699D2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B06-302D-4456-AEC6-7BB3E4EE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A34-E7B0-4529-BF8C-540B6831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633-50AE-4903-8ECD-0CE2D9FC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A74-E983-4815-938B-15A461BB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917-26C9-4CEF-AB65-5108E96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DE5-D5FC-462C-ACD0-81460441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0A0-3355-4380-8EEE-E0A8C468D9E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1DCC-EB1B-4894-8820-C93E170860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全球新兴国家商业资讯数据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中英文设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登录</a:t>
            </a:r>
            <a:br>
              <a:rPr sz="2500"/>
            </a:br>
            <a:br>
              <a:rPr sz="2500"/>
            </a:b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不论出现的是“英文”还是“中文”，请如下图所示，勾选“全部”之后再点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57200" y="1892160"/>
            <a:ext cx="822960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界面语言选择</a:t>
            </a:r>
            <a:br>
              <a:rPr sz="2400"/>
            </a:br>
            <a:br>
              <a:rPr sz="24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登录进去后，当出现“英文”界面，如下图时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457200" y="1954080"/>
            <a:ext cx="82296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把鼠标箭头移动到右上角的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QUICK LINK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处，会出现下图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内容占位符 3" descr=""/>
          <p:cNvPicPr/>
          <p:nvPr/>
        </p:nvPicPr>
        <p:blipFill>
          <a:blip r:embed="rId1"/>
          <a:stretch/>
        </p:blipFill>
        <p:spPr>
          <a:xfrm>
            <a:off x="457200" y="1887480"/>
            <a:ext cx="82296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继而鼠标移动到左下角的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ACCOUNT SETTING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即进入“客户设置”界面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360"/>
            <a:ext cx="8362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通过上面那界面可设置个人喜欢的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Languag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界面语言” 及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ent Languag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内容语言”。下面以： “中文”为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77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设置“</a:t>
            </a: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界面语言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：点击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nterface Languag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下的选择框，会出现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hines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选中“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hines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。之后页面会自动跳转为中文界面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内容占位符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置“</a:t>
            </a:r>
            <a:r>
              <a:rPr b="1" lang="zh-CN" sz="1600" spc="-1" strike="noStrike">
                <a:solidFill>
                  <a:srgbClr val="ff0000"/>
                </a:solidFill>
                <a:latin typeface="Calibri"/>
              </a:rPr>
              <a:t>内容语言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”：单击“内容语言”下的“设置默认内容语言”的下拉框，之后即可勾选“中文” （建议将中文和英文同时勾选）。勾选后，将鼠标移动到任意空白处，点击一下便设置完毕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3692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05:32:00Z</dcterms:created>
  <dc:creator>邹雪锋</dc:creator>
  <dc:description/>
  <dc:language>en-US</dc:language>
  <cp:lastModifiedBy>Administrator</cp:lastModifiedBy>
  <dcterms:modified xsi:type="dcterms:W3CDTF">2016-11-14T00:48:48Z</dcterms:modified>
  <cp:revision>12</cp:revision>
  <dc:subject/>
  <dc:title>EMIS 全球新兴国家商业资讯数据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8</vt:lpwstr>
  </property>
</Properties>
</file>